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F7B-9AB5-47A8-B33F-BCF36245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AC5-5FC3-4008-A1BE-456D84CD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7A4321-D2E9-41BD-B85D-7EF66096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D37B1E-A4E3-45A7-A8C3-835600F5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EF9E3D-E61C-46C2-A77E-E4808F03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0F27F6-E312-4F58-A952-ED4A9A41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87C166-E52F-4A57-B837-0FBB6589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2BB96F-0A86-4F3E-AFC9-13C1CAAC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6E2899-5E2B-49B2-B7BC-47FB88AF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3CF7A1-67FA-49C4-951E-68F7BFB3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B772ED-0D56-4C3F-89AB-FBCE0485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5B43B-E1C3-4848-B686-A149BD0C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795-B958-4ED9-9B87-AB847E1C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DF4E4-8EF3-4240-967D-D13B2ABD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99890-F54B-4616-8C3B-485A7592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C23B3-DFBF-4EA3-A6A6-A3D88019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393A7-2DAD-4012-9FBF-23957FFD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38A85-D74A-4FA2-A52A-567EA855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AEFC5-BD24-4044-A910-DF6ECC08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46BA6-77DB-4F05-AF2F-30D68ED7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B3076-992B-4DFC-8D18-0CE36E17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4B845-8CCB-4E04-B13E-481E6452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7FC37-8116-47B4-8C16-D65C0DC1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9D6C-FEBF-442B-9973-4F6E1D65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CF784-ADC7-4D16-8953-A56082E4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AD793-CF54-46C4-BC64-C543E87F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7448C-E2C8-44B4-8914-3EF29A81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3EB3D-33F4-4766-A21C-3D656F83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A1505-BBF0-4048-A0B1-FA98C1C6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0F9E3-6D11-4569-ADE5-EC0AF626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08A68-4E20-4D0A-BC13-B4D4C216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EAB03-DD1A-4605-8CA5-7DE73426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63F1D-A1E3-475E-9E22-41D52924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37CD9-D434-4987-9A37-1F727B9C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1E75-FEA7-47CC-8460-EE5572F9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99B3F-5981-4EB3-AF9C-673441EE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CD011-B6E8-403B-AC4E-4ACE165A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461F5-4683-4193-81FE-B4CF0F74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C4BCD-1E2C-4416-B62B-EF3FBD2E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B4C7D-96F7-4995-BC05-37E03CF2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97875-F955-4123-AD3D-DE390E5F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31DE3-0D59-4326-966D-701BACD9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1D21B-2576-4618-9594-5C68AD6B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EEDE6-73F3-4018-A085-738E7A47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80B59-A305-4AA1-9853-2BAD5C6C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0FD9-1ED0-42B6-B728-0CA554BD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75154-4417-48B2-9042-A9967B9E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FE341-EAAB-47A6-BA78-1016D43F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6FF31-AC11-4EC7-A242-9611F08C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2B0E4-41AA-4A7F-88E0-776E661B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CC965-83C2-47BC-8011-2D21F130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D498F-A3BB-4BFC-9BC7-C23CE133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7DB76-E585-48D9-8238-4091C14D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13D63A-CA70-44E1-8A70-C65F4CA0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B9683E-1CFA-4571-A88C-75F87A43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1FE93-87BA-4D18-9AB2-74582134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C9AC-BFDF-4F86-9AF7-F7F47F3B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9095D-5BDC-43B1-ADBD-6FB0FF32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2AE9B5-09BE-481D-A250-14FD74E4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3C973-9AE3-4359-A8EE-0789970F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712E31-D582-4C08-9831-61F8BE74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13352-3AC6-45C8-84C2-23E4876A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410AF-9B5A-4E00-BA35-C75BECE5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5492B3-16A8-4D6A-A451-0779D6CD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DE0B8-FEDB-4FAE-B5D1-3270158C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632EF-37D9-46FA-9CA5-3A4A84FE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D11661-7CBA-4B4C-B686-FB60616F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E5C0-E37A-4B74-A3B1-8B9491CF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5B514-92BD-4A21-BD76-8E9426ED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63BBBB-E2E5-4F9E-8F49-CD16C854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A29AE-D397-4349-A8FE-719D8469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A5FE9D-DD14-4CF9-AEC2-60D5BE79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1B188C-899E-450B-8C74-3C191903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B20C16-2E4C-4C37-8DD7-5D5C3984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E0CA29-33CB-4E7B-AB23-BD921000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7772F9-EFE6-4F80-A744-BBC0EE90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B60CE6-7F1B-4F42-8DB5-F650CF5A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12E8A1-0E7B-41FE-A8D3-97A1C6E5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5F9B-E6D5-4DFA-8314-F168FBFF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DB101D-DDB3-478D-A2E7-17AB4E48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18FEAE-61FA-4D7C-9A46-B4A1555E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F995A0-B902-4C73-A371-1D893D1E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A4F092-55AD-4F1B-9ABE-7770B794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6C90B0-3EF8-465C-815E-3296057D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F489D6-7242-43D2-BD27-E8932B16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0540FB-E5E9-4C92-8C5D-744BFE9D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6EC4B2-463C-4E14-B053-5B2A6C00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B7A193-0C1D-455E-A949-03A56D3B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F809ED-7A92-4960-8679-6D68E1E2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DED9-2A18-494A-9630-FCADCEC2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B82AF3-E69D-4E9E-87FE-973CE5AD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D9FD50-01F3-4A98-80A5-0701DA24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BD9B76-5331-4B61-B5C0-9EC0B938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A00D2D-32A5-494C-87D0-D6B2CB2E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EFED93-9691-40EB-8509-9F1EC69F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7E8D4A-EC2F-4A30-BC37-063BB236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86294D-B278-49EF-AE61-E8755094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B57C91-30C5-4192-BD12-1FD691FC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2381C2-5CEC-4506-9EEC-C4F55720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4410DF-6D15-4C02-BD73-29F72521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DE96-BEF3-4511-A335-BDBD79CE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581F92-F3AF-4990-AE13-20D7832F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09106A-04DB-45A0-8195-9FBC6F2B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6A67B3-019F-430F-A779-9A3F2EE2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FAC9A2-D6A2-4C1A-87E6-B61E8A28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7F5F41-7946-443E-A51E-042910DB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808AD7-3596-4F74-820B-7C7C4EF0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1D0C59-EF89-4145-8086-A47B3E3B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B56C27-B6F1-4B43-8FAB-F899A5BD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7EA54-8F74-4650-890C-ED036BB9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0C2F4B-B701-4F89-8479-4C07C986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033-C581-4EE0-BFAE-1E77E3B9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AC6C-E702-4721-96FA-DC00980C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4DDAF-3DFF-4184-9F39-39541D6F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2CC44C-478A-4F48-B78D-1B11C8BA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1AE531-4109-4799-BC36-5AFF05B7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02D4D5-F762-409A-89A1-3A45DBC8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19B661-B201-4B52-8D57-CC4672F1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BB9CCB-CBE3-4918-833B-08D95DF8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0C3769-E02C-4766-8376-8324C4F3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AE13FF-2553-4355-BCC8-566289D4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8612F6-0EEC-44BD-A201-5DAFEA2F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5967A6-6F06-4E95-80F2-94B7C899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770E-3A71-47CC-BFFB-C7FBC8FA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83FA33-15B6-4190-8600-CC4F7375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D77062-69AB-41E6-8F39-2020A5CF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8832C7-4D2B-4164-9443-2595199E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303BEC-B557-477E-A187-8032EB28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3C7A77-77DD-44BF-AD7F-263FEEFE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E06675-FB02-4415-AC45-5421807B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B6C866-60EE-4594-94B4-519D35BD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BEEC26-D405-48DB-B119-DC4B37A1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E8AF6C-7E91-4C84-A48E-F1BA87BE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A62D4C-7203-40D0-A4DD-056E48F6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55E5-6055-4706-8CCE-2B6BA1F2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FD26FF-492A-420D-9975-E850D06A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7B2788-377C-4056-87C1-75600E8D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B4EFDC-C578-4A5B-9567-457028FD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48707B-02B4-4077-BE1F-E7363076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17D285-3A70-453C-8E23-A157CB19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D5D3A0-A192-49B3-B70B-682ED0F5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30DD04-5910-44F0-A599-DC66F3F7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00A794-EB58-4D5A-A924-569BEBCD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3AFCCD-0980-4FA4-9179-7F6BCCA7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7DA7D4-9D53-49EE-89A4-F2365BB3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F990-F4E7-4593-8A1A-7ECEB0FC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A42729-03F6-4929-8A02-B4752428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861665-14E6-49DF-9D76-3F169FC0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6BD456-6733-4E77-BFCF-2EA37C02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F3C7B8-AB9E-4332-9B33-7AFC9D4A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CDDE99-FC5F-44DA-9BBB-012214B7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3B2645-D692-467F-966C-C2D72F3D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351679-57F3-41DD-83E7-9D74E5CD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012536-A570-47C4-B13A-27576FA1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332C6C-D8EB-43D9-814E-4C99E7F3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27D475-AB31-4531-875F-64753769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8995-EDCE-49B1-9DF9-D43AD3F9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35D880-AB56-47AB-84A8-6867AAF1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D519D-D2EB-4924-965D-C364C086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34005-AB1A-4860-93A4-0C5E0E6A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C7402-69D8-4610-AF04-0147D040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9EF1B-6AD6-4696-B906-7BFB930E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EC715-8C6B-41CB-A201-68D9472B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B6E-AED2-4E69-B62D-6ED18FE3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F53DB-A2F6-47AE-8861-A93F41F4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DC69F-19B4-4B30-947B-C5C70177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E0742-D989-4E90-AE02-2238DAAF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17F04-F275-4A58-A5D4-33E2E97F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FBAE5-1658-4939-ACA7-EB31F887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F87A6-F1C2-466C-A6E6-D1F317B2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17EB1-1D15-4FAF-B197-E3284585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5DA00-F226-4DE3-93F0-9B3DD67C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44BFC-1436-400F-8A4F-E15EF44F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B32D2-F692-4FB7-B17A-DFE450FD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EDA-E26D-4FB1-951F-AB815D43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55D39-BDEB-488E-B200-E4C1A6F6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51B6A-168A-4F6A-AFCF-D5E90462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E96B7-B3C3-4576-B67A-825CFA1B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0A584-B57F-4543-95F9-3EA67D43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8801D-E1F4-4C1F-82EB-A9181A70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743F6-F395-4DAC-9AE2-C0F86529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F586F-D037-4B2B-AE05-99A0D55D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24F17-249D-41B0-B372-FF77984B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603F5-5046-4E2E-BEAD-C7B9BA4D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DBCFCD-0606-4036-93EF-9FD528E8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0F77-9058-4EA1-B968-C805E980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701795-4AA7-4138-BD3D-86773D16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95F490-CD28-401E-8C4E-9C1447B5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9D2762-CE1E-4D3C-B740-26E0D389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7D07D0-D481-41BB-B454-D6B3C719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323FE4-EBE3-4725-BB8B-46095D01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2655E5-F4E4-40F7-918A-47D4C0C2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DD28D9-4300-45F3-8EDB-A90EF706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90D42A-2CDC-44D8-87B7-FCAC0385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7C6568-384A-4475-BEAD-53B8A382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4C0D9A-BD67-4CB9-A9AF-7C2D7333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5C24-9807-4204-9D55-F1CDEA0A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037A75-17CF-49F5-89AA-E98A52F0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18679-BCFB-4D8F-9D58-307677AB1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E6C1A-8F09-436E-A51C-2036551B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73C26-AEBB-452A-B420-F67957C9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DF7E7-EEE0-43AA-90E2-0947D71E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C1C13-3279-4D92-AE5E-9EC2772F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1806D-DD5D-48E2-BF32-9A36E4C0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C539A-E31D-4CED-ADBC-D3D079DF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0C8B7-5500-4F6E-B696-3FFF16FF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E2494-2233-419B-9D73-CE94FA71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56B-324A-455A-AD29-2CD51615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85DE1-0E73-4FB3-8CEE-E3FB827C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4C0E4-8DE5-40E1-991A-AC1D19E6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5CFE5-EA64-42FF-8D7A-94B4784A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74449C-6326-4AAB-9528-5D36FD21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993E5B-5E95-4372-ADA5-7DE89DE4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0D716B-B37D-444D-AA59-9B4C7BAA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37895B-969D-48EC-9B22-708FFA8F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86D975-B40D-4C33-ADF3-257FDC44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9B830B-E29D-4D31-A3F4-34AC8AFC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1380A4-8B4E-4FF1-8C12-2A8FC290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3547-8740-4890-9E72-EF663E89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F8164A-4789-4868-AF23-D76E6E40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AE7985-8B8B-446F-8FEE-FC2F5B84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32CC59-D688-4491-985A-25548E9F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70C6FE-3D5E-4564-A9B0-05915964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240A07-F264-4D08-841B-69E3003E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2BE125-C57F-4A61-ABEB-7E5E3C99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2F8DCE-9AEF-48AB-A4B3-88D49156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1AC469-7DFB-4DF1-9007-89D0D2B3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F286DE-C147-4EFB-94D6-CC9874DC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60759C-6150-4EBE-AFC9-1431168A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E270-2654-4C10-A96B-C93C3D7C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B98770-A446-44EC-8BD4-BD498D27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283697-6F8C-4E02-AC8F-C557DA52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6B5606-6DF0-4C6F-9FFF-6BBE0082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F3F586-3CE0-4CA4-AED5-3C0DD967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C8306A-C5FA-424E-85D8-6FF8ADE3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AC6A8C-B96B-47FB-A037-13ADD6F7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1DDD47-9F37-4298-B027-F9080A14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DA4A3E-1FE9-4E09-87D0-59C659D9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AA9CEF-7CD1-4385-BDDE-CE85794E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DAA0F0-07D9-4F53-9AB9-413E2256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78B0-B0CF-4391-A935-FF6F573996E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1655-DBF4-4E1B-AC94-88E12E118684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A86F-800C-49A5-9FCD-B10F5142499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B619-C4F9-44AE-93C8-8D681FD2092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8154-22DD-4004-96A7-E4B91941330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B188-10DD-4F48-BF74-29218A88CCB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A920-DCF6-43B6-81B2-A941B688365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4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4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4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5CCA-62BA-4B82-921E-501D59C0604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4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5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5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5C28-ECA2-4C3E-984A-5AA39A9D076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5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5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5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C587-2605-4ABE-81B9-949DE37DA8B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dt" idx="5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ftr" idx="5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sldNum" idx="57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133B-AE8C-4CC8-B4C5-6A2A1325D8E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0271-9BA5-4B37-8E45-3641B1F6F7C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D911-7784-4B8E-82D1-C432497A7F7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560B-0D51-4852-8BD2-E4AE03F0586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35F4-1845-4407-95AF-DBC966A734B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3520-427B-4EFA-B9E0-40179D8B637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7D03-1371-46AE-A4B1-19F4F505B37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1CF0-C5E2-474D-BC85-BF34E737C87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dt" idx="2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D573-FC9A-4338-AEF7-7D53D66E4AC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30B1-22E9-482C-BEF2-CF6A3668D73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Sarah Monro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43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was born July 30, 1863,and died on April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 Antiqu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1947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duc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attended a small one room school Until I Was 15 in Dearborn, Michigan For 8 years. I was not very fond of school and was a poor studen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 greatest accomplishment, or what I was mostly known for is creating The Mass production assembly lin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other important accomplishment was I Made the model T car. Also known as the Tin Lizzi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third important accomplishment was creating the ford motor compan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 AM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am Henry Fo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2" name="Picture 3" descr="Henry Ford.jpg"/>
          <p:cNvPicPr/>
          <p:nvPr/>
        </p:nvPicPr>
        <p:blipFill>
          <a:blip r:embed="rId1"/>
          <a:stretch/>
        </p:blipFill>
        <p:spPr>
          <a:xfrm>
            <a:off x="609480" y="2590920"/>
            <a:ext cx="3048120" cy="390816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4" descr="Henry Ford And The Model T.bmp"/>
          <p:cNvPicPr/>
          <p:nvPr/>
        </p:nvPicPr>
        <p:blipFill>
          <a:blip r:embed="rId2"/>
          <a:stretch/>
        </p:blipFill>
        <p:spPr>
          <a:xfrm>
            <a:off x="3772080" y="1523880"/>
            <a:ext cx="53719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8:54:38Z</dcterms:created>
  <dc:creator> </dc:creator>
  <dc:description/>
  <dc:language>en-US</dc:language>
  <cp:lastModifiedBy> </cp:lastModifiedBy>
  <dcterms:modified xsi:type="dcterms:W3CDTF">2009-02-06T18:08:43Z</dcterms:modified>
  <cp:revision>13</cp:revision>
  <dc:subject/>
  <dc:title>Who Am I?</dc:title>
</cp:coreProperties>
</file>